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7C04-CA7D-4DCA-A6D5-B4F61DAE1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CD13-6744-477E-BF75-B9E556B1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054CCA-B725-42A0-9189-3BAF969F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219D9-8210-4289-B42E-02225116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87075-42FD-46DC-B4A9-B0AD897B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975EE-D721-4D8A-AABC-BF82A4D2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48D1B7-84F8-4670-93FE-38F9A4B6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31458-0788-49B5-9D2F-36151162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B21CB-B3BC-4E15-8DEE-CFCAA0DD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AAAB03-3DBC-4F64-9A0D-FF97B4161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4A0451-C23D-4896-9A1D-DCB7483EA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ACBD2-0B45-46C6-899B-A7B34F99B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3072-0863-48DC-8928-B316C3F24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B2E89-ED54-484F-BACA-F11188C1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DD084F-18FD-489A-B56A-867B42B5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873649-B17C-4B05-BDEA-FAF6728C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7268AD-C92E-4A17-8BB6-7122E895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5B6784-837D-43B6-8FCE-C9527F11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65140-3C78-481A-94D0-9A4EAF63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D02C8D-3BAB-468C-8545-921A0842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B2D5E6-6736-40A6-954C-A875143A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7A2F51-352A-4BE3-B75A-42CBB93F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E46AC-1A9C-423F-91AB-391A2242B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49B0-C588-42B7-8373-2DF31347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4A027C-A50E-4F74-ADDC-95E431116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7D5FE-66BD-486F-A828-6CF1B3C9C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A2E36-46C9-44F6-859C-60E41D3C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78B93-AC4B-440D-B9F8-2700F3AE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7472A-0720-4B1C-9BD9-D5AB422E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7781D-4E1B-493B-BC54-3CCEC3E0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FA33A-9D36-4F18-B1F4-42DFDE85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DE98A-7ECC-49E2-8B2C-5D714926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996D4-B586-430A-B552-7111CC75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C302A-E2C7-428B-87A6-7040C14F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8454-C26D-41C2-88F2-45DB8742F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84DB7-B065-4B61-A34D-D9AEBC92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9C75F-DE94-43F0-B43C-DCE04F311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88E1C-AA2D-4E40-B99D-56D84C2C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37AF7D-3C70-4FA9-8A18-35FFC2B9F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791443-14FB-4401-8038-69238A62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DEB3F8-65FA-4CDF-86B4-3D283F8F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D84EC9-0F9D-4980-97B6-5444C135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490B04-7A10-43F4-9577-F02AF893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BFF098-3382-4F27-8993-2A1D77CE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FC12B8-220E-4566-B97C-765B5243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62A9-BE25-4BF8-826C-0C9FE49F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81BCF0-5316-4973-8C29-D0E61B22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C40365-205C-482A-91EE-874325F0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53CA29-7BD6-4A6A-B3F0-8EA1BBBF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164C52-6F9A-4025-B628-A5A1ED93D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AF5F5C-CD8C-4B7B-8761-AD0CDB1E5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130D-1EBF-445D-A615-9DD2FE37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ED8D-57E1-46FE-AFBC-35744999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6FD3-225B-4AA1-BAB6-91BBB552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1B39-434E-441B-B68A-1364C99D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362F-A5A5-4452-BA0C-ADD92C34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180B-FB69-4054-B20D-61AA8E38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E5C8-F261-4BE6-978D-857DC8B4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3684-FFD4-4506-ABEC-20E0A841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53D8-0B6E-46E3-9453-753469AF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2425-340C-4833-9278-11DB3D90C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39AB-FC1E-4CFC-966C-473AE0599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25319-1390-48B3-B094-B1A33676E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3944A-1C74-4F99-88DB-D771A330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E44B2-858C-46ED-A73C-724FE404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9E9AF-5E3A-4648-96C1-E5BD6D45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0A8BE-F08E-40A3-89CC-884E7F81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2EB8-D608-4DCC-B112-F4C6653E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31D51-321D-409C-A5EF-A980C5E2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563F0-6FE9-4DFA-819B-34AD610A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D1BE3-BB78-43F8-9D5B-AEBE4097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5456F-6453-4D4F-8FB9-A14AAFEF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01A43-BBF1-4746-AFEA-2EFCDA09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0B487-4430-43AB-B1BC-A5FEE127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F265B-2766-4628-8F6A-63F411D6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5E29B-DFC5-4639-8B1E-CF2E84942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ECADF-BE00-4299-9FE1-A6891835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236D6-B453-48BE-BA95-116B6886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2B0E-A8F6-4959-B90F-B9848110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5E5F1-02C3-4674-BE0B-729C05B7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1733E-BA7F-4991-ABA5-41ABF8F5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5E92A-7137-4517-8F3F-B18AA740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25ECD-3C67-4C5E-A654-0ACD295B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569A0-89B1-4643-A447-AD9A25B8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BC45C-6982-48E7-B38D-EEC1A42D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9FE27-5DD1-4943-9BFC-956D1FDF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31241-F4FF-4F28-969E-6A6A530B0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25B2E-F850-4DC8-80FF-0DC948FD6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3585B-8FD6-4C75-B47B-46D55E858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59CD-2B33-434D-A1F8-777FA756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49A2C-23E9-4116-8B04-93E0E9A8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7C7EF-E122-412A-923C-2FEA909A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C6471-B6BD-4F74-9319-DAF23BCE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E5BFE-28F3-4EB6-A60F-7C204943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76236-D8B8-41C9-B533-BBF69949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29CC2-C774-463C-A5FA-71EBB688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6376D-7FB8-4FB5-B94F-EF5D2120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2D411-B529-4DFE-B1F3-A673A6FA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C3603-6C86-4FDE-BABF-53F7B4C0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6DD76-518B-4C50-AFAE-64486F3F0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13C3-7479-404F-A99D-7AB107D2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DF9DE-09E2-4D64-87D7-35F46822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16B86-9636-49E1-8A33-C818021B3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88149-6AF9-4FE7-8CF1-D23C64CD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C7376-67A1-43AB-B2F2-E004990E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21161-A5EA-43E2-BAC7-A3D6D64F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C76C4-647E-4425-B4BC-8B0194DC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33C22-C4C9-4538-A513-A34AED82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2C09A-5B93-448A-AB05-66168709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5265F-1703-4C39-90AF-2700D76E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1172E-D39B-434E-90A6-A87460DB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726A-3D82-4AC0-9966-080AE0A0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B6C45-6575-4392-854D-2CCE1F91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2A4BA-D59D-4AC0-84CD-97DBCB96D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4B20B-8BDC-4FB1-A286-489675F5F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C49BB-2063-4012-98CC-F79CE1D00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28F46-92EE-4BF9-AE55-7E3F6FAE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DF31E-1F27-4E0B-9C44-4F0B550F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027FF-FBBD-4305-9F96-29EFB5B8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1B6B6-C1BF-4880-894E-9C48C470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D2D5B-837F-4416-8D3E-4BD97A04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A25EB-624C-4D6C-A651-30E8A895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9C30-26E1-48DE-9CE5-4182EEFC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E516F-5668-4919-91B7-1CA87AEF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55A74-C2B2-4DAF-BF6F-B219C57C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30D1B-48D6-407A-A3DE-D043DF3C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EBDFA-9552-40A0-9EE4-879EAA8F2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F4BE1-8F98-4EE6-BF0F-B427B2539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87046-5BD3-422F-ACED-3F8C69105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6F8A7-A0CD-4181-B5C8-31DCA8CC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6DC6C-B78A-48E7-9F65-DB7C2FEF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77023-E1AD-434B-8B02-4BE10E5E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C3369-C977-4E39-B4DE-CE262F84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01FF-91B5-45E8-A328-17FF1035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EE197-FF28-415D-807A-9F0AC3F9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BBB89-E707-4BA7-862D-85F4A832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00A00-11AE-4FEC-8D53-BBA9ADE0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41E76-0529-47FC-92FB-6F96CEDA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F2B4B-9349-4896-ADC2-AFA09F17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DCBF6-3086-4A1C-B46D-0678F48E7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960D1-B2A4-486D-8597-B18DCF7C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01A09-81CB-4809-8660-8EAC8567A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FE4D4-43D1-4B22-A1C1-C466C748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13EBD-1481-4FBA-8C7A-B7B211D0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86D5-3352-4DD7-9EED-83D36B1BCFE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572A-8D0B-4F63-8436-9DB900EC79A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9025-10DC-47DA-96B2-EE8A25E6698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41F8-42C9-4D57-8074-76C294B8556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C908-DAA2-409B-935C-7ED4D4DA65F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30AD-9104-44CF-B8A1-944CAFAECEA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FB7C-EAA8-4FE0-82C9-45865F7B654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3403-EE9A-4FA8-AB31-3D7D83E88C9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00F2-B014-492E-AA81-94CD9CD5C8D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ED20-0505-414B-87DD-D6188BD3459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5282-EBA1-4EB1-B592-AE66BC873EC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7374-B993-4558-8C3E-655CC425025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31 Mňa odzbroj, Pane mô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ňa odzbroj, Pane mô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tvojím väzňom by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iba vtedy, keď som tvo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iem svätý život ž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náruč tvoju m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svoje väze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nej lásku tvoju okúš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m vrúcne žela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srdca môjho vstúp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ňa láskou spútaj s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oporou mi pevnou buď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nikdy nekle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tvoje bremä ni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ať jarmo tvoje rád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tále žiť na tvoju č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j hájiť Majestá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teba poslúch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, drahý Pane mô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ráč mi na to silu d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tále pri mne st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č svojej vôli le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ú moju podriad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ty aj istú prehru vie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výhru obráti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2-18T19:12:57Z</dcterms:modified>
  <cp:revision>21</cp:revision>
  <dc:subject/>
  <dc:title>Je veľký náš Pán, on slávy je Kráľ Nech do všetkých strán  spev vrúcnych znie chvál.</dc:title>
</cp:coreProperties>
</file>